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F431-4C57-4042-89C0-3D5CA233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933-A4FE-451E-841C-5A303A2A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10E-85B3-4438-BDE1-71D3B2C9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F4E-0D69-41DB-808C-A18F8669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629-9A77-4194-8870-D232C21F4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CFB-B1D6-46D5-AFAA-EC53C8EC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5FC8-002C-4232-9CD7-55FD4837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051-39EC-47E7-AC40-2F932D38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A83D-59BD-492E-A635-7599856B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349A-CDBC-429F-B201-4E4E44AF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90CA-542A-4DA8-867F-0AFE6883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C8B1-08F8-47B8-B939-275361C3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DA47-ADE1-4837-8156-41B441785AF7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資料庫圖表 3" descr=""/>
          <p:cNvPicPr/>
          <p:nvPr/>
        </p:nvPicPr>
        <p:blipFill>
          <a:blip r:embed="rId2"/>
          <a:stretch/>
        </p:blipFill>
        <p:spPr>
          <a:xfrm>
            <a:off x="255600" y="414360"/>
            <a:ext cx="6175440" cy="6175440"/>
          </a:xfrm>
          <a:prstGeom prst="rect">
            <a:avLst/>
          </a:prstGeom>
          <a:ln w="0">
            <a:noFill/>
          </a:ln>
        </p:spPr>
      </p:pic>
      <p:pic>
        <p:nvPicPr>
          <p:cNvPr id="42" name="圖片版面配置區 4" descr="Vicky.JPG"/>
          <p:cNvPicPr/>
          <p:nvPr/>
        </p:nvPicPr>
        <p:blipFill>
          <a:blip r:embed="rId3"/>
          <a:stretch/>
        </p:blipFill>
        <p:spPr>
          <a:xfrm>
            <a:off x="5907240" y="3693960"/>
            <a:ext cx="3017520" cy="3078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user\Local Settings\Temporary Internet Files\Content.IE5\I0GKM9HC\MMj03567500000[1].gif"/>
          <p:cNvPicPr/>
          <p:nvPr/>
        </p:nvPicPr>
        <p:blipFill>
          <a:blip r:embed="rId4"/>
          <a:stretch/>
        </p:blipFill>
        <p:spPr>
          <a:xfrm>
            <a:off x="7093080" y="62064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學習目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介紹世界各國迷人的萬象風情及文化特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提升學習者的國際觀及其視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標題 1"/>
          <p:cNvSpPr/>
          <p:nvPr/>
        </p:nvSpPr>
        <p:spPr>
          <a:xfrm>
            <a:off x="468360" y="32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學習對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內容版面配置區 2"/>
          <p:cNvSpPr/>
          <p:nvPr/>
        </p:nvSpPr>
        <p:spPr>
          <a:xfrm>
            <a:off x="539640" y="4292640"/>
            <a:ext cx="82296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國、高中生為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有興趣的民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學習架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圖片 4" descr="環遊世界之旅.jpg"/>
          <p:cNvPicPr/>
          <p:nvPr/>
        </p:nvPicPr>
        <p:blipFill>
          <a:blip r:embed="rId2"/>
          <a:stretch/>
        </p:blipFill>
        <p:spPr>
          <a:xfrm>
            <a:off x="1090440" y="1749600"/>
            <a:ext cx="7139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教學流程安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資料庫圖表 4" descr=""/>
          <p:cNvPicPr/>
          <p:nvPr/>
        </p:nvPicPr>
        <p:blipFill>
          <a:blip r:embed="rId2"/>
          <a:stretch/>
        </p:blipFill>
        <p:spPr>
          <a:xfrm>
            <a:off x="901800" y="1981080"/>
            <a:ext cx="762624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教學設計解析與自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相關問題之解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本課程使用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e2010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版製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參考資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自我評估製作時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操作導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內容版面配置區 5" descr="操作導引.png"/>
          <p:cNvPicPr/>
          <p:nvPr/>
        </p:nvPicPr>
        <p:blipFill>
          <a:blip r:embed="rId2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Broadway"/>
              </a:rPr>
              <a:t>Show Ti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圖片 6" descr="演示.png"/>
          <p:cNvPicPr/>
          <p:nvPr/>
        </p:nvPicPr>
        <p:blipFill>
          <a:blip r:embed="rId2"/>
          <a:stretch/>
        </p:blipFill>
        <p:spPr>
          <a:xfrm>
            <a:off x="1030320" y="2419200"/>
            <a:ext cx="6784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8:52:10Z</dcterms:created>
  <dc:creator>user</dc:creator>
  <dc:description/>
  <dc:language>en-US</dc:language>
  <cp:lastModifiedBy>user</cp:lastModifiedBy>
  <dcterms:modified xsi:type="dcterms:W3CDTF">2011-01-23T03:19:28Z</dcterms:modified>
  <cp:revision>21</cp:revision>
  <dc:subject/>
  <dc:title>投影片 1</dc:title>
</cp:coreProperties>
</file>